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62F62-AF0D-4F4D-A7D4-18078EEFC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65BD4-93AB-4DA6-9FEE-50E45004E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0E8A6-1260-42CD-B64F-42CC9451E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8AAC9-E730-4687-AAFD-298F68545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438F2-64DA-4072-8104-87EFF1261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77948-0BD2-4FD9-BD37-38A02B4E1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ED601-5921-4471-912E-E0E37F8F9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9F2D5-FC46-46E1-87EB-283508E22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ABDB0-E6AC-402C-9799-FDA07400F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0C125-5520-4D7B-8314-FF0149B15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3E388-DF25-44F7-A851-FAF2A9BD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69340-D599-4508-B61B-8FD419503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F8AF8-B77B-44FC-AAC1-817F372D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70E69-F174-4C74-A58B-41365BDD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1DEA4-3722-4F7B-A795-1810A156B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6F9E2-1B06-4285-9945-6EDA28B21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C2258-F7F6-496C-AA97-8041121D3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2F146-F7CC-40F7-96D8-70E0E9947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6CCF6-C48E-44BD-B51D-BF0F3A376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E5BB6-20A8-4378-B479-9C816706A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08287-32DC-44B9-8790-7E350FBC9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CF678-948C-433A-9424-5E1A9329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E4E70-FF8C-4B48-AB99-77F20A13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20A21-F864-487E-BFED-7B45A16A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BE070-6A81-4F58-B915-CA04958F1E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57B5B-1A09-4D05-AF20-171B24CBB17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getours.com.au/" TargetMode="External"/><Relationship Id="rId3" Type="http://schemas.openxmlformats.org/officeDocument/2006/relationships/hyperlink" Target="mailto:get@getours.com.au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ORGANISING AN OVERSEAS LANGUAGE TOUR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32000" y="2923920"/>
            <a:ext cx="640080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ffffff"/>
                </a:solidFill>
                <a:latin typeface="Garamond"/>
              </a:rPr>
              <a:t>Living Lessons since 196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38" descr="headerLogo"/>
          <p:cNvPicPr/>
          <p:nvPr/>
        </p:nvPicPr>
        <p:blipFill>
          <a:blip r:embed="rId1"/>
          <a:stretch/>
        </p:blipFill>
        <p:spPr>
          <a:xfrm>
            <a:off x="3348000" y="3645000"/>
            <a:ext cx="2604960" cy="25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5e5ff"/>
                </a:solidFill>
                <a:latin typeface="Garamond"/>
              </a:rPr>
              <a:t>The G.E.T. Advantage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ducational Tours Speciali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nderstand and respond to the needs of Australian school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ttend &amp; present at information sessions as requir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fessional service and personal attenti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nderstand and respond to the unique demands of specialised group travel arrangemen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ell established reputable company with nearly 50 years experience in organising Educational Tou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gistered Australian travel agent – IATA, AFTA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uge selection of finely planned itineraries – or create your ow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</a:rPr>
              <a:t>Ongoing Support, prior to, during and on return from your tou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Picture 4" descr="headerLogo"/>
          <p:cNvPicPr/>
          <p:nvPr/>
        </p:nvPicPr>
        <p:blipFill>
          <a:blip r:embed="rId1"/>
          <a:stretch/>
        </p:blipFill>
        <p:spPr>
          <a:xfrm>
            <a:off x="0" y="0"/>
            <a:ext cx="140328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5e5ff"/>
                </a:solidFill>
                <a:latin typeface="Garamond"/>
              </a:rPr>
              <a:t>Some Recent Study Tou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8" name="Picture 4" descr="group at airport"/>
          <p:cNvPicPr/>
          <p:nvPr/>
        </p:nvPicPr>
        <p:blipFill>
          <a:blip r:embed="rId1"/>
          <a:stretch/>
        </p:blipFill>
        <p:spPr>
          <a:xfrm>
            <a:off x="324000" y="1268280"/>
            <a:ext cx="3456000" cy="2590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student at xmas market"/>
          <p:cNvPicPr/>
          <p:nvPr/>
        </p:nvPicPr>
        <p:blipFill>
          <a:blip r:embed="rId2"/>
          <a:stretch/>
        </p:blipFill>
        <p:spPr>
          <a:xfrm>
            <a:off x="250920" y="4149720"/>
            <a:ext cx="3529080" cy="2538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student at farewell party"/>
          <p:cNvPicPr/>
          <p:nvPr/>
        </p:nvPicPr>
        <p:blipFill>
          <a:blip r:embed="rId3"/>
          <a:stretch/>
        </p:blipFill>
        <p:spPr>
          <a:xfrm>
            <a:off x="4932360" y="4095720"/>
            <a:ext cx="3672000" cy="2592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group at berlin wall 2"/>
          <p:cNvPicPr/>
          <p:nvPr/>
        </p:nvPicPr>
        <p:blipFill>
          <a:blip r:embed="rId4"/>
          <a:stretch/>
        </p:blipFill>
        <p:spPr>
          <a:xfrm>
            <a:off x="4932360" y="1268280"/>
            <a:ext cx="3600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hotos of our destin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3" name="Picture 11" descr="tour-effeilsmaller"/>
          <p:cNvPicPr/>
          <p:nvPr/>
        </p:nvPicPr>
        <p:blipFill>
          <a:blip r:embed="rId1"/>
          <a:stretch/>
        </p:blipFill>
        <p:spPr>
          <a:xfrm>
            <a:off x="457200" y="2336760"/>
            <a:ext cx="4038480" cy="3051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AmadeeLighthouse"/>
          <p:cNvPicPr/>
          <p:nvPr/>
        </p:nvPicPr>
        <p:blipFill>
          <a:blip r:embed="rId2"/>
          <a:stretch/>
        </p:blipFill>
        <p:spPr>
          <a:xfrm>
            <a:off x="4648320" y="1695600"/>
            <a:ext cx="4038480" cy="19954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2" descr="Tea Ceremony Room Kanzawa"/>
          <p:cNvPicPr/>
          <p:nvPr/>
        </p:nvPicPr>
        <p:blipFill>
          <a:blip r:embed="rId3"/>
          <a:stretch/>
        </p:blipFill>
        <p:spPr>
          <a:xfrm>
            <a:off x="5846760" y="3938760"/>
            <a:ext cx="163980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5e5ff"/>
                </a:solidFill>
                <a:latin typeface="Garamond"/>
              </a:rPr>
              <a:t>Have you considered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Language / Music Tour Combination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Language / History Tour Combina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Language / Sporting Tour Combina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By combining two faculties you are able to widen your pool of prospective students and offer wonderful opportunities and itinerary suggesti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5e5ff"/>
                </a:solidFill>
                <a:latin typeface="Garamond"/>
              </a:rPr>
              <a:t>Ques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9" name="Picture 4" descr="headerLogo"/>
          <p:cNvPicPr/>
          <p:nvPr/>
        </p:nvPicPr>
        <p:blipFill>
          <a:blip r:embed="rId1"/>
          <a:stretch/>
        </p:blipFill>
        <p:spPr>
          <a:xfrm>
            <a:off x="3276720" y="1413000"/>
            <a:ext cx="3025800" cy="29224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"/>
          <p:cNvSpPr/>
          <p:nvPr/>
        </p:nvSpPr>
        <p:spPr>
          <a:xfrm>
            <a:off x="1332000" y="4724280"/>
            <a:ext cx="698508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www.getours.com.au</a:t>
            </a:r>
            <a:r>
              <a:rPr b="1" lang="en-A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Garamond"/>
              </a:rPr>
              <a:t>Ph: 02 8088 331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Garamond"/>
              </a:rPr>
              <a:t>Fax: 02 9221 254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Garamond"/>
              </a:rPr>
              <a:t>Email: </a:t>
            </a:r>
            <a:r>
              <a:rPr b="0" lang="en-AU" sz="18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get@getours.com.au</a:t>
            </a:r>
            <a:r>
              <a:rPr b="1" lang="en-A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76000" y="62028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en-AU" sz="4400" spc="-1" strike="noStrike">
                <a:solidFill>
                  <a:srgbClr val="e5e5ff"/>
                </a:solidFill>
                <a:latin typeface="Garamond"/>
              </a:rPr>
              <a:t>Finding a reputable travel company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7040" y="2491920"/>
            <a:ext cx="7929720" cy="35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</a:rPr>
              <a:t>Established in 196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</a:rPr>
              <a:t>Australia’s largest and most experienced school tour operato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</a:rPr>
              <a:t>Head office in Melbourn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</a:rPr>
              <a:t>Sales Offices in Sydney, Brisbane, Townsville and Wellingt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</a:rPr>
              <a:t>Sole business is school group tra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</a:rPr>
              <a:t>Offer tried and tested brochure programs or tailor made itineraries and assistance to suit school’s specific aims and objectiv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5" name="Picture 4" descr="headerLogo"/>
          <p:cNvPicPr/>
          <p:nvPr/>
        </p:nvPicPr>
        <p:blipFill>
          <a:blip r:embed="rId1"/>
          <a:stretch/>
        </p:blipFill>
        <p:spPr>
          <a:xfrm>
            <a:off x="0" y="0"/>
            <a:ext cx="219564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5e5ff"/>
                </a:solidFill>
                <a:latin typeface="Garamond"/>
              </a:rPr>
              <a:t>Language Tour Destin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0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Japa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New Caledoni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ranc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union Island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hin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alaysi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Vietna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Kore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reec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pain/South Americ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erman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tal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urke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4" descr="headerLogo"/>
          <p:cNvPicPr/>
          <p:nvPr/>
        </p:nvPicPr>
        <p:blipFill>
          <a:blip r:embed="rId1"/>
          <a:stretch/>
        </p:blipFill>
        <p:spPr>
          <a:xfrm>
            <a:off x="5508720" y="2060640"/>
            <a:ext cx="31813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03280" y="28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5e5ff"/>
                </a:solidFill>
                <a:latin typeface="Garamond"/>
              </a:rPr>
              <a:t>Philosophy of Language tou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814716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o extend the classroom into the environment being studied and to offer student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experiences beyond the conventional tourist dimension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.E.T’s philosophy - “Living Lessons”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grammes are designed around Australian Curriculu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ny of our staff are ex teachers – understand unique learning environ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eaching and learning programs for New Cal, other destinations to follow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Picture 4" descr="headerLogo"/>
          <p:cNvPicPr/>
          <p:nvPr/>
        </p:nvPicPr>
        <p:blipFill>
          <a:blip r:embed="rId1"/>
          <a:stretch/>
        </p:blipFill>
        <p:spPr>
          <a:xfrm>
            <a:off x="0" y="0"/>
            <a:ext cx="176364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e5e5ff"/>
                </a:solidFill>
                <a:latin typeface="Garamond"/>
              </a:rPr>
              <a:t>Benefits of International Touring and Immersion for Language student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nhance students’ communication skills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ain knowledge &amp; understanding about family life, school life, general history, housing, food and table manners in a different cultur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ather authentic materials and resource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Understand more about Australia after experiencing a different cultur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ncourages a sense of responsibility by taking care of themselves and their belongings, and by working together as a team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ives students an experience of life in a foreign language culture and to foster their appreciation of i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evelop students’ abilities in reading and writing in a foreign language (eg. Signs, menus, directions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xpose our students to the richness of other traditions and culture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ive our students the challenge of organising themselves for and experiencing overseas travel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5e5ff"/>
                </a:solidFill>
                <a:latin typeface="Garamond"/>
              </a:rPr>
              <a:t>G.E.T servi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21844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Garamond"/>
              </a:rPr>
              <a:t>Competitive Airfare quo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Garamond"/>
              </a:rPr>
              <a:t>Itinerary Planning and Book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Garamond"/>
              </a:rPr>
              <a:t>Homestay co-ordination and place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Garamond"/>
              </a:rPr>
              <a:t>Accommodation choices (hostel – 3 star hotel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Garamond"/>
              </a:rPr>
              <a:t>Coach chart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Garamond"/>
              </a:rPr>
              <a:t>Rail passes or point to point ticke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Garamond"/>
              </a:rPr>
              <a:t>Sightseeing / guided tou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Garamond"/>
              </a:rPr>
              <a:t>Language Less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4" descr="headerLogo"/>
          <p:cNvPicPr/>
          <p:nvPr/>
        </p:nvPicPr>
        <p:blipFill>
          <a:blip r:embed="rId1"/>
          <a:stretch/>
        </p:blipFill>
        <p:spPr>
          <a:xfrm>
            <a:off x="0" y="0"/>
            <a:ext cx="169236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5e5ff"/>
                </a:solidFill>
                <a:latin typeface="Garamond"/>
              </a:rPr>
              <a:t>Complimentary servi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000" y="2276280"/>
            <a:ext cx="821844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</a:rPr>
              <a:t>In addition to those services – the following are also includ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</a:rPr>
              <a:t>Information nights at schoo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</a:rPr>
              <a:t>Assistance with risk assessmen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</a:rPr>
              <a:t>Group departures at Sydney airpor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</a:rPr>
              <a:t>24 hour emergency contact numbers while oversea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</a:rPr>
              <a:t>Follow up tour survey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6" descr="headerLogo"/>
          <p:cNvPicPr/>
          <p:nvPr/>
        </p:nvPicPr>
        <p:blipFill>
          <a:blip r:embed="rId1"/>
          <a:stretch/>
        </p:blipFill>
        <p:spPr>
          <a:xfrm>
            <a:off x="0" y="0"/>
            <a:ext cx="140328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e5e5ff"/>
                </a:solidFill>
                <a:latin typeface="Garamond"/>
              </a:rPr>
              <a:t>Steps for Organising an International Study Tour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1)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TEP 1. CONTACT G.E.T. FOR QUOTE / ITINERARY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ontact G.E.T. to gain an accurate quote for your proposed tour and itinerary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2)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TEP 2. THE FIRST MEETING WITH SCHOOL ADMI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rrange a meeting with school administration to discuss your proposal and plans for a study tour.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3)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TEP 3. THE FIRST MEETING WITH STUDENT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all a meeting of interested students and provide them with a letter for parents outlining the objectives of the tour, anticipated dates, approximate costs and advantages of the tour. Include a tear-off response sheet to return as an expression of interest and seeking further details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4)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TEP 4. A PARENT/STUDENT/TEACHER MEETING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f sufficient interest is shown organise an evening. G.E.T. can supply a powerpoint of a recent school excursion to the destination.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5)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TEP 5.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ODGE DEPOSIT WITH G.E.T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 deposit is necessary so that tour arrangements may be confirmed with carriers, accommodation houses etc. An invoice will be sent for amount with payment deadline quoted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e5e5ff"/>
                </a:solidFill>
                <a:latin typeface="Garamond"/>
              </a:rPr>
              <a:t>Steps for Organising an International Study Tour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6)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TEP 6.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BALANCE OF PAYMEN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end a letter of receipt to parents, and outline a schedule for balance of payments based on deadline for final payment advised by G.E.T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7)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TEP 7. FINAL PAYMEN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inal payment invoice will be sent to you with a deadline 65 days prior to date of travel. With this payment it will be necessary for us to receive a full names list of passengers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8)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TEP 8.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THE FINAL MEETING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Hold another information session for parents to discuss the finer details of the tour, spending money, accommodation, packing suggestions, meeting times, etc.,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9)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TEP 9.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THE DEPARTUR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On day of departure a G.E.T. representative will be at the airport to co-ordinate check-in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4T21:44:34Z</dcterms:created>
  <dc:creator>mathew</dc:creator>
  <dc:description/>
  <dc:language>en-US</dc:language>
  <cp:lastModifiedBy>Kate Keily</cp:lastModifiedBy>
  <dcterms:modified xsi:type="dcterms:W3CDTF">2011-08-02T00:38:47Z</dcterms:modified>
  <cp:revision>23</cp:revision>
  <dc:subject/>
  <dc:title>G.E.T. EDUCATIONAL TOURS</dc:title>
</cp:coreProperties>
</file>